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D15-5D4B-446A-B3DD-8F42D964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E14-4489-4030-90AF-6EF311B4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EE1-0747-4033-B1D0-AE147794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5DF-0216-4369-A9EB-81521CE0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010C-13D6-44C4-BD5D-8563A76A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3D6B-A837-492A-8A64-F7E171E2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E1F2-3DF7-4B40-84C1-23399925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868C-5078-4AF8-B74E-1E160D95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118B-5E5A-4B57-8ED4-B91A94B3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BA76-F5F2-44DC-A0E2-A910967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AC7F-7C25-453A-A96A-C6E2FAD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848-D52C-4C68-B36B-89D0EF55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3803-BE60-43DD-B4EE-D87D0429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3787-09B2-4AA0-B85B-F756506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A57E-A2AC-4B0F-B949-22106D7E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1865-B2C4-46E8-AD95-CE25DEDB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0CDA-1DD2-4ABA-B28C-06B79836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0A0-4DCC-4885-8164-A6EDD75C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FD9-3A17-432D-972C-087A44E1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CDE-C8CA-4CA3-A697-DC99CCC4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C31-086F-4510-85B6-010B34C3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785-8FB5-4772-8ECF-B399FC8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FA3-6442-4BCB-B8F1-80CDFD8C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103-E6A9-4A30-9B27-AD01E6E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7A8-8FA6-4C8A-8B2F-498F3F200A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99D3-773F-4E32-9799-C13348F271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n Sairausvakuu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uri Heinonen LPT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 Korva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 sairastat kela korvaa osan sairaskulu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htona asua pysyvästi Suomes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ä korvata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akorvaus sairauskului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ääkärinpalkki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tkimus- ja hoitokul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mmashuol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ääkekorvauk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kakul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lan uutuu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okavaliokorvaus keliakiaa sairastaval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liakiaa sairastavat voivat saad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10.2002 alka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elalta korvausta gluteenittoman ruokavalion aiheuttamista kustannuksist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9:38:53Z</dcterms:created>
  <dc:creator>Lauri Heinonen</dc:creator>
  <dc:description/>
  <dc:language>en-US</dc:language>
  <cp:lastModifiedBy>Lauri Heinonen</cp:lastModifiedBy>
  <dcterms:modified xsi:type="dcterms:W3CDTF">2002-12-16T20:18:41Z</dcterms:modified>
  <cp:revision>2</cp:revision>
  <dc:subject/>
  <dc:title>Kela Sairasvakuutus</dc:title>
</cp:coreProperties>
</file>