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0D1-579D-4687-8C57-566EDBA4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F0C-1482-405F-9BCE-FF247347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B71-0655-462A-B369-E967EB50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C5D-09A6-4E0B-9665-89353588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1071-A6AD-4B00-9055-F645D816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5BC4-7F6F-40BE-A8F5-F6F34B8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3F8-65E8-4646-9911-5C40AD0D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5AB0-D816-430A-94DE-ADF8258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4B6B-E71B-44C7-B858-96E815F1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2C05-D46C-4406-BAC4-22460FEA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167A-3FE8-4726-AD8A-18607DB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EBD-33A7-4595-8EA7-7CA69DC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9F92-E6FC-4B87-88C9-B18345F1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1565-C076-4DAF-BACA-D56A1BA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8D9D-8C14-45E7-8CF2-DC46DCC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3961-EC77-4ED2-8C28-854147D1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92D9-1F55-43C7-A4D5-5C2C5BE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ADA-8A97-486D-94BD-BDEEDDEB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3A0-38DE-4430-A48C-42DB2C0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7AD-6712-487E-90B8-A2E84F0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6A4-EE91-47CB-91F0-B91AD16E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9F6-78BF-4919-B584-D9D19DF7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D02-92F0-4BCA-9598-D3ECDDC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9AD-76EB-4DE0-A79C-468C849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F83-B5E8-4405-9A93-7E3098FBE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CCA-D20A-47FF-AB27-A9C72E2429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Sairausvakuu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ri Heinonen LPT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 Korva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 sairastat kela korvaa osan saira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htona asua pysyvästi Suomes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ä korvata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akorvaus sairau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ärinpalkki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kimus- ja hoito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mmashuol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ekorvauk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ka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uutuu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okavaliokorvaus keliakiaa sairastaval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liakiaa sairastavat voivat saad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10.2002 alka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elalta korvausta gluteenittoman ruokavalion aiheuttamista kustannuksis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9:38:53Z</dcterms:created>
  <dc:creator>Lauri Heinonen</dc:creator>
  <dc:description/>
  <dc:language>en-US</dc:language>
  <cp:lastModifiedBy>Lauri Heinonen</cp:lastModifiedBy>
  <dcterms:modified xsi:type="dcterms:W3CDTF">2002-12-16T20:18:41Z</dcterms:modified>
  <cp:revision>2</cp:revision>
  <dc:subject/>
  <dc:title>Kela Sairasvakuutus</dc:title>
</cp:coreProperties>
</file>