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BD1-553B-4F14-A894-A5E94E13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B84-C354-4049-8283-8BF90584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C4E-8CF5-4685-A19A-F32610A3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BCA-9562-455E-BDB5-1687320C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328F-5BE3-4291-B670-FC3E688C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31E-96F5-4700-92C6-BEA022EE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4235-4189-4D79-BC2F-1BEBCA2B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924C-C00D-4E8E-B5DA-C2F4E70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768-8BC9-43EB-B70D-EC842C1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A160-272C-4631-A16C-7D8194D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9587-AE41-4876-88A5-EEF9AED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610-7406-4275-BFD3-17682D7A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B20B-5133-4FB1-BF7B-B76D063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C523-E4A8-41DD-BE3E-DB6903CA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85E-B060-40B7-93B6-9D2818A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3F3-171A-4D36-A27F-C7274616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8C9-A56D-4F55-B206-5694087B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80D-73DD-4567-82A6-FEBB051E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112-6167-4774-9D12-79F2C79E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854-F57B-4654-A3E5-A7521AD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9CB-4858-4F8C-9F09-AA44CA83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140-F149-420A-B482-6799AC2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0C5-AAAB-4AC4-A6F3-30D1FFF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890-BAAA-4417-B670-FC49A935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E94-D63F-4E9B-9A5D-B163F97781FA}" type="slidenum">
              <a:rPr b="0" lang="fi-FI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002B-524F-420C-A1FC-CD59B72B6C13}" type="slidenum">
              <a:rPr b="0" lang="fi-FI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Sairausvakuu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ri Heinonen LPT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 Korva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 sairastat kela korvaa osan saira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htona asua pysyvästi Suome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ä korvata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akorvaus sairau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ärinpalkki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kimus- ja hoito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mashuol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ekorvauk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ka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uutuu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okavaliokorvaus keliakiaa sairastaval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liakiaa sairastavat voivat saad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0.2002 alka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elalta korvausta gluteenittoman ruokavalion aiheuttamista kustannuksis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9:38:53Z</dcterms:created>
  <dc:creator>Lauri Heinonen</dc:creator>
  <dc:description/>
  <dc:language>en-US</dc:language>
  <cp:lastModifiedBy>Lauri Heinonen</cp:lastModifiedBy>
  <dcterms:modified xsi:type="dcterms:W3CDTF">2002-12-17T07:29:44Z</dcterms:modified>
  <cp:revision>2</cp:revision>
  <dc:subject/>
  <dc:title>Kela Sairasvakuutus</dc:title>
</cp:coreProperties>
</file>