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F43E-1DE2-45FF-98A9-8435C087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C382-D627-45D3-BFE6-B2107A9E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E9F2-DDAF-47E4-9DEC-B213A6E8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B301-6BAD-4100-A831-885F550D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3D61-E8FA-44AB-801B-6DD06146B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4272-BF73-4FDC-AA16-0C7962D0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7907-2282-478B-8329-10299BE4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5D6B-182C-40DF-ADA7-B5AC91B2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E713-C148-4A55-BE32-47BC50ED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4D20-C54B-43A9-A9DC-11DEBCF5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5817-56CC-453D-A3B5-D6509F31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8554-9798-4DAD-B287-A913F24E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B301-7CC2-405B-BFCF-A0A4AE2D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A7C4-07DF-45A1-8A7C-5D05FB78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EA94-CCE4-41AF-B55C-F7D14020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C32D-971A-4C16-81A9-A911470CB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C0F4-4D98-45AA-B100-10E48235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0781-1393-4456-A90D-87C5A023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EA24-B5FA-43EC-B6C4-25B91780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FB24-C1C6-4ADE-9E0A-69CED93D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AA8E-850E-4053-85A1-F654152F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39BD-0E58-410E-BBC8-38B6CE0B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54E5-3774-4C72-8440-138FC4CB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CA6A-6C59-4C2A-BE6D-7B311F3A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3315-779C-425D-8822-0EDC9C89EE83}" type="slidenum">
              <a:rPr b="0" lang="fi-FI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C8C5-6FA3-437A-B20D-2B3F0A3FCE51}" type="slidenum">
              <a:rPr b="0" lang="fi-FI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lan Sairausvakuu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uri Heinonen LPT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la Korva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un sairastat kela korvaa osan sairaskuluis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htona asua pysyvästi Suomes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tä korvata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sakorvaus sairauskuluis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ääkärinpalkki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tkimus- ja hoitokul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mmashuol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ääkekorvauk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kakul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lan uutuus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okavaliokorvaus keliakiaa sairastavall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liakiaa sairastavat voivat saad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.10.2002 alka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elalta korvausta gluteenittoman ruokavalion aiheuttamista kustannuksist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19:38:53Z</dcterms:created>
  <dc:creator>Lauri Heinonen</dc:creator>
  <dc:description/>
  <dc:language>en-US</dc:language>
  <cp:lastModifiedBy>Lauri Heinonen</cp:lastModifiedBy>
  <dcterms:modified xsi:type="dcterms:W3CDTF">2002-12-17T07:29:44Z</dcterms:modified>
  <cp:revision>2</cp:revision>
  <dc:subject/>
  <dc:title>Kela Sairasvakuutus</dc:title>
</cp:coreProperties>
</file>